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3F29-C1C7-42B5-8382-5C35C21E4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7527-A82C-4A4A-AFE6-EC90D32F95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09E6-9078-4B09-AC0A-21804BC9AF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4EBB8-6CBF-41CD-9C48-E2DFA873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903C1-6102-48A3-9720-10FF76B1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1363D-B56B-49FB-B9ED-03FD85A6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F5929-F00C-440D-870B-415FBD7A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F8D4-50C4-4D2C-BA65-60935066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B3A0-5EDB-49D3-9C9F-3A7B4E27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0AC2-6C36-4F71-9778-813E5D0F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5213-9505-468E-9528-23880D67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C87D-B8F5-4A94-BF53-6E8FFD01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7D7A-9327-463C-A9DE-1D6ACEF8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B7C4-931F-4EF9-8BDC-C323D610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5A5E3-28FA-4BE1-913A-6BE2EB6F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39F4-32BC-414E-80AA-D51D61BD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5F11-296C-4E7E-8B79-7ECC3945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73CB-EF7D-4C68-936C-F11A3F4D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5E4A-E7E6-4C52-8089-5DECCF29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9C92-1C40-47EF-8664-9F2E2636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B08FA-49EF-4952-8840-EEF8A808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AAC82-70E2-4CF9-B510-DA0280EC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1A127-5C4A-42F1-888F-929339D5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9CE4-1A88-45A1-91CF-60A13E3E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F83D-42AA-4FA0-BCFC-92C29FF9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18A8E-C61A-4452-8B18-C38E00EF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522E6-29D4-4F10-AC9B-047A671B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70D5-18A7-4B42-9642-635AD1DDA1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3BC6-D663-4EDF-A6E4-731AACD12D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.org/1999/XSL/Transfor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71840" y="1371600"/>
            <a:ext cx="5291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ffffff"/>
                </a:solidFill>
                <a:latin typeface="Arial"/>
              </a:rPr>
              <a:t>ACG 5405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XSL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senting XML and XBR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UBLCatalogueCompressed.jpg"/>
          <p:cNvPicPr/>
          <p:nvPr/>
        </p:nvPicPr>
        <p:blipFill>
          <a:blip r:embed="rId1"/>
          <a:stretch/>
        </p:blipFill>
        <p:spPr>
          <a:xfrm>
            <a:off x="339840" y="1143000"/>
            <a:ext cx="846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 UBL Catalogue Node Tre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3"/>
          <p:cNvSpPr/>
          <p:nvPr/>
        </p:nvSpPr>
        <p:spPr>
          <a:xfrm>
            <a:off x="3429000" y="4952880"/>
            <a:ext cx="1981080" cy="99072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talog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0" y="2666880"/>
            <a:ext cx="1143000" cy="83844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5"/>
          <p:cNvSpPr/>
          <p:nvPr/>
        </p:nvSpPr>
        <p:spPr>
          <a:xfrm>
            <a:off x="1143000" y="2666880"/>
            <a:ext cx="1295280" cy="83844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2438280" y="2666880"/>
            <a:ext cx="1295640" cy="83844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3733920" y="2514600"/>
            <a:ext cx="1752480" cy="121932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ovi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ar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5486400" y="2590920"/>
            <a:ext cx="1752480" cy="121896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ar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7238880" y="2590920"/>
            <a:ext cx="1905120" cy="1218960"/>
          </a:xfrm>
          <a:prstGeom prst="ellipse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talog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traight Connector 11"/>
          <p:cNvSpPr/>
          <p:nvPr/>
        </p:nvSpPr>
        <p:spPr>
          <a:xfrm flipH="1" flipV="1">
            <a:off x="571320" y="3504960"/>
            <a:ext cx="3848040" cy="144756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traight Connector 13"/>
          <p:cNvSpPr/>
          <p:nvPr/>
        </p:nvSpPr>
        <p:spPr>
          <a:xfrm>
            <a:off x="1789920" y="3505320"/>
            <a:ext cx="2629080" cy="144756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21"/>
          <p:cNvSpPr/>
          <p:nvPr/>
        </p:nvSpPr>
        <p:spPr>
          <a:xfrm flipV="1">
            <a:off x="4419000" y="3733920"/>
            <a:ext cx="190440" cy="121896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traight Connector 23"/>
          <p:cNvSpPr/>
          <p:nvPr/>
        </p:nvSpPr>
        <p:spPr>
          <a:xfrm flipV="1">
            <a:off x="4419000" y="3809520"/>
            <a:ext cx="1942920" cy="114300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traight Connector 25"/>
          <p:cNvSpPr/>
          <p:nvPr/>
        </p:nvSpPr>
        <p:spPr>
          <a:xfrm flipV="1">
            <a:off x="4419000" y="3809520"/>
            <a:ext cx="3771720" cy="114300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traight Connector 27"/>
          <p:cNvSpPr/>
          <p:nvPr/>
        </p:nvSpPr>
        <p:spPr>
          <a:xfrm flipH="1" flipV="1">
            <a:off x="3086280" y="3504960"/>
            <a:ext cx="1333440" cy="1447560"/>
          </a:xfrm>
          <a:prstGeom prst="line">
            <a:avLst/>
          </a:prstGeom>
          <a:ln w="9360">
            <a:solidFill>
              <a:srgbClr val="0075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1447560" y="2666880"/>
            <a:ext cx="838080" cy="2971800"/>
          </a:xfrm>
          <a:custGeom>
            <a:avLst/>
            <a:gdLst>
              <a:gd name="textAreaLeft" fmla="*/ 246240 w 838080"/>
              <a:gd name="textAreaRight" fmla="*/ 838440 w 838080"/>
              <a:gd name="textAreaTop" fmla="*/ 123840 h 2971800"/>
              <a:gd name="textAreaBottom" fmla="*/ 284832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9160" y="38466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f N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5867280" y="2895480"/>
            <a:ext cx="838080" cy="2971800"/>
          </a:xfrm>
          <a:custGeom>
            <a:avLst/>
            <a:gdLst>
              <a:gd name="textAreaLeft" fmla="*/ 246240 w 838080"/>
              <a:gd name="textAreaRight" fmla="*/ 838440 w 838080"/>
              <a:gd name="textAreaTop" fmla="*/ 123840 h 2971800"/>
              <a:gd name="textAreaBottom" fmla="*/ 284832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7480" y="407520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anch N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371600"/>
            <a:ext cx="1752840" cy="9144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1295280"/>
            <a:ext cx="1752480" cy="9144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y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1219320"/>
            <a:ext cx="1752480" cy="9144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724280" y="2285640"/>
            <a:ext cx="76320" cy="152280"/>
          </a:xfrm>
          <a:prstGeom prst="line">
            <a:avLst/>
          </a:prstGeom>
          <a:ln w="9360">
            <a:solidFill>
              <a:srgbClr val="007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ow to transform dat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HTML&gt;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ells processor transformation will use html tag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ode between &lt;HTML&gt; and &lt;/HTML&gt; code is the data to be transformed and the formatting code for the trans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1447920" y="685800"/>
            <a:ext cx="79246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?xml version="1.0"?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Inventory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InventoryItem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ame&gt;Basketball&lt;/Na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IdNumber&gt;12345&lt;/IdNumb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Cost units="USD"&gt;12.50&lt;/Cos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RetailPrice units="USD"&gt;25.00&lt;/RetailPric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/InventoryItem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/Inventory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value-of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s and transforms/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lays the value of the selected 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t the end of the nod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ased on </a:t>
            </a:r>
            <a:r>
              <a:rPr b="0" i="1" lang="en-US" sz="21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attribu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must point to the “node” you want display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ull node path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entory/InventoryItem/IdNumbe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//elementname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when one and only one element has th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at root and look for element na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xsl:value-of select=“Name”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-of select can use a function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or-each loop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ll elements contained in a node-se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de-set is declared with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ttribu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.xsl code provide instructions for what to do with selec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hat transformations to mak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TML, and XSL tags combined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xsl:for-each select=“Inventory/InventoryItem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umer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iling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oor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un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at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ins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lize-spac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s-with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ng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ng-length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ring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ring-after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ring-befor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ormat() func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t-number attribute has two arg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umb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attern (see formatting pattern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xsl:value-of select =“format-number(sum(Inventory/InventoryItem/Cost),’$#.00’)”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2362320" y="4724280"/>
            <a:ext cx="403848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736440" y="48006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6629400" y="4800600"/>
            <a:ext cx="914400" cy="457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6631560" y="48006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te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41911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42670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ormatting Number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A dig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# A digit, zero shows as abs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pref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period) Placeholder for decimal separa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laceholder for grouping separa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Separate forma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efault prefix for nega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Multiply by 100 and show as a percent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Any other characters can be used in the prefix or suffi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‘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to quote special characters in a prefix or suffix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ccessing Remote Instance Doc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()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xsl:value-of select=“document(‘URI.xml)”/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-Purpo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in benefit of XML / XBR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usability of Data contained in Instance Docum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e need a method of presenting the dat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sentation Linkb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XSL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utput (HTML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ransformation will be to an HTML doc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Center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TABLE BORDER = ‘1’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efines the border width for the tabl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TH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able Hea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tarts a new row in the tabl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TD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tarts a new cell in the row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lspan=“#”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any columns should this cell s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lign=“right, left or center”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tags must be close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efining Tables in HTM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&lt;Table Border=“n”&g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ells browser to begin making a tabl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&lt;TH&g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ells browser to use text as heading (1</a:t>
            </a:r>
            <a:r>
              <a:rPr b="0" lang="en-US" sz="23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row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ells browser to insert a new row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&lt;TD&g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ells browser to insert a new column in the new row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ose all ta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&lt;/TD&gt;, &lt;/TR&gt;, &lt;/Table&gt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able with 2 rows and 3 colum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ABLE BORDER=“1”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1c1&lt;/T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1c2&lt;/T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1c3&lt;/TD&gt;&lt;/TR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2c1&lt;/T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2c2&lt;/T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2c3&lt;/TD&gt;&lt;/TR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XSL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y it’s based on XM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yle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hat the data will look lik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cript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orm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use, Repurpose, calculate, sort, etc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XSLT Par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S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ransform Instance Document to different For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ML, XHTML, XML (new), PD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SL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r formatting dat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ansformation Requires xml code in Two Documen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nce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Prolog line linking to xslt docum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SLT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ntains script for selecting elements to be display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XS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80880" y="4343400"/>
            <a:ext cx="8534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eXtensible Stylesheet Language – Trans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Native XML language for processing XML documents into other 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352680" y="2209680"/>
            <a:ext cx="1905120" cy="1600200"/>
          </a:xfrm>
          <a:prstGeom prst="cube">
            <a:avLst>
              <a:gd name="adj" fmla="val 250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XM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914400" y="1600200"/>
            <a:ext cx="1219320" cy="1219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914400" y="3124080"/>
            <a:ext cx="1219320" cy="1219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S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6553080" y="2286000"/>
            <a:ext cx="1219320" cy="1219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s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2133720" y="342900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5257800" y="2819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ansforming your Instance Documen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an additional prolog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s your .xml to your .xsl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?xml-stylesheet type=“text/xsl” href=“name.xsl”?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-styleshee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lls the processor to use the stylesheet file to format the data in the .xml docu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ref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ints to location of .xsl docum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XSLT (the XML code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Root Elem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namespace declar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&lt;xsl:stylesheet xmlns:xsl=</a:t>
            </a:r>
            <a:r>
              <a:rPr b="0" lang="en-US" sz="17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w3.org/1999/XSL/Transform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version="1.0"&gt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ll other namespaces used in the instance document (THEY MUST MATCH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fault namespaces (e.g. without the prefix) are not allowed in XSLT v 1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ke up a pref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lements used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emplat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or-eac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value-of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mul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Su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+, -, *, div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mat-numb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emplat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 that follows root e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elements from .xml are being us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lates provide ans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ing Elements from Instance against Template created in XS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&lt;xsl:template match=“/”&gt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/ = Look in entire source docu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7:38:08Z</dcterms:created>
  <dc:creator> </dc:creator>
  <dc:description/>
  <dc:language>en-US</dc:language>
  <cp:lastModifiedBy> </cp:lastModifiedBy>
  <dcterms:modified xsi:type="dcterms:W3CDTF">2009-07-07T14:22:33Z</dcterms:modified>
  <cp:revision>44</cp:revision>
  <dc:subject/>
  <dc:title>ACG 5405</dc:title>
</cp:coreProperties>
</file>